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7.wmf" ContentType="image/x-wmf"/>
  <Override PartName="/ppt/media/image21.jpeg" ContentType="image/jpeg"/>
  <Override PartName="/ppt/media/image16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0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4F68-BBEC-4B94-8646-81BEB24FCA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usti will introduc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J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4 years of book clu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llaborated and shared ideas, shared books, started slow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ny JH librarys doing –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llaboration – very successful!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se ideas are from ALL Arlington ISD libraria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Karen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– 2 year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llabo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4E6D-8B5A-439C-A656-F34591661A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w trail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ee to educators  - www.animoto.com or Photopeach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DB37-774E-4828-BAFA-DE4DA9764A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0B91-4214-4C40-9FA6-7D007FB404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usti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posal – formal or informal – show example that is linked to the pi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pends on princip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aren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rted as an informal clu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74F6-9AB8-4734-8014-19AB7B462D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a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ivity Accou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e Mon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ok Fair Mon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ing books off the Scholastic car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library lo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deral Mone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5FA7-6017-41E2-AB33-CEAEC4339C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are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nounc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ters and bookm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u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gn Up Sheet in the libr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y to promote to the grade entering your school (for the next year) – example,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grade orientation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lyer – show Dusti’s fly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B7D6-1E59-4043-BBA1-57B3E64CD4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ar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’s all about style… every book club is different depending on what works for your campu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of our book clubs conduct their meetings at lunch, before school, and afterschoo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hedule – how of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 the book together or independent rea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brarian led or student 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o is included – teachers, parents etc… what are the expectations of the participants, will this be formal or more relaxed and informal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ating arrang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95DD-ECEA-4C39-80F1-CFCCA8575C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ust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are places we get boo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gazines – BL, GL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91DA-BF7E-44B7-8337-EC8E8B5426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aren and Du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okmarks – commercial and librarian cre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ee-b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BB1C-9BC6-40CF-B40B-19895F5DD1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a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ss out bookmarks that have the titl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A86A-D866-4535-89FE-F03F862F1C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0341-F463-47C2-96A8-F77F1D3C5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1EDD-749B-4B4B-9C2B-C3B32167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D693-E9CC-4EE1-AF1F-4EA6E26DD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6DAC-7742-4650-A586-28F2B34D7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6FC8-6F1F-463A-B855-A542C1794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E671-62ED-4C4F-AF40-5DC2AF8B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A7E0-AC11-49C8-A5F4-3206A721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2A99-682B-4B18-BD56-80E9BADF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B712-08BC-4A98-8087-7FF61913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2CF7-BC24-4F2B-ABFA-674BF523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AA0E-FDBA-4006-BE22-58A5C238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8C9B-594E-4D1A-A51F-6C269B10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BED49-E688-44FD-866B-24BDC5CF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AF44-DD75-4251-813B-73BF0023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E33A-743E-4B7B-8F27-FDE2987A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34B1-E69E-45A7-9336-00C7068DE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3284-227D-4144-A8FB-7B0488A90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8DED7-A2AA-436B-99F8-459CDBD8C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68A0D-F4F9-47B6-A29E-706CE289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B2B5D-19F7-4492-AAF5-7BDE86FB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30FFB-3A20-47D8-9D54-A3F03CD5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0CFA2-B91C-4F4F-85F6-8CCD3355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F9F2-C7EA-4063-B569-F0DB3204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8B024-718A-4241-8462-F39B72AF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C55C2-916F-4689-B5E5-B588EC50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A7AA5-A701-4FD4-AF34-9284E4C5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618FD-A2E5-4D21-BDD3-29F54178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C2433-23C4-47B5-87E1-B694DEC2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AFBB2-7F85-48C3-83B4-06E9FD327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3EB0E-6610-4682-8CAD-2A011B26F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3AAD8-B61F-4FB2-AA9B-043E057F3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84208-60B2-4E2D-8C22-192E43C0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E646D-B7AA-4AD3-83AC-DC071340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C3CC-6C89-44D3-AE20-AD37705E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0E849-569A-4D40-A732-1EEDA0A7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94FF0-3C18-48DC-987F-9CE382F9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36E19-9A5D-4CF6-921B-EDD9991D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696AC-2191-4972-8C0F-FE4418B1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69230-B576-432D-ABC7-945C8E7E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BF21E-F619-4E07-88DF-8297701E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9FDE9-65CC-4C92-9017-D6A1ED0A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4CCFE-D437-44AB-BAD5-614749E35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E25EF-8A20-40E5-91F5-60D266946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CF863-AFD7-4DC2-B382-399495152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3AB7-B596-4B2A-81C8-C92ECED0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62EFF-D5D9-41AE-826B-7A5DAEBF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9B3D9-E4FF-4B43-8B1D-C29650A3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4F44F-C6E2-413E-8BA9-51D7737C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CA835-B2DE-4722-98FE-CEE2F65A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4A8CD-0942-47B7-BEF4-B6BF3990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EE4B6-F537-4FE7-88BF-CF44FFEA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8E0A7-3526-4808-875F-B3C26650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ECED9-C37C-4461-AC0A-EFD0FEAC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A6AF3-9BF0-416B-A727-7554098A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6CFEA-78B2-4953-A754-EDDFDA1D1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48ED-73AA-44F4-B883-D1366796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5D774-F09F-4C55-BC1B-6A70093B9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5E18C-7A7C-4D39-8898-4E39743BE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0ABF4-0EA5-4E59-B65C-B7A46540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FCE74-BBB0-428C-B98D-EE05B604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3429D-A2EE-40B2-80F9-BC34EFD3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A5FF1-CDE7-4CA6-BED2-95F90D0B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3FAFC-CE9A-4893-87BD-4F597878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21E5F-F3A2-4A1E-A714-0F1D1B68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4A4FF-E116-4485-B2FE-12113FA4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1F096-0159-4529-AF71-BBD2B610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94E1-44DB-48A1-B90D-85C386E5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63272-FF38-4F44-9C95-18D56CEF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3A126-B986-49FC-91B6-C6FF83963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81816-533C-4415-86B6-B1263EFB4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0968-68E9-4670-BF25-C5922308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C358-33B8-4A79-BDFA-87C638CC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437760" y="0"/>
              <a:ext cx="8706240" cy="34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7"/>
            <p:cNvSpPr/>
            <p:nvPr/>
          </p:nvSpPr>
          <p:spPr>
            <a:xfrm>
              <a:off x="0" y="5760"/>
              <a:ext cx="1825200" cy="6852240"/>
            </a:xfrm>
            <a:prstGeom prst="rect">
              <a:avLst/>
            </a:prstGeom>
            <a:solidFill>
              <a:srgbClr val="d4e3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8"/>
            <p:cNvSpPr/>
            <p:nvPr/>
          </p:nvSpPr>
          <p:spPr>
            <a:xfrm>
              <a:off x="0" y="5760"/>
              <a:ext cx="1825200" cy="167472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10"/>
            <p:cNvSpPr/>
            <p:nvPr/>
          </p:nvSpPr>
          <p:spPr>
            <a:xfrm>
              <a:off x="494280" y="424800"/>
              <a:ext cx="836280" cy="83736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06E4-C866-47E2-AD28-9B34A5C0F873}" type="slidenum">
              <a:rPr b="0" lang="en-US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0" y="0"/>
            <a:ext cx="9144000" cy="6400800"/>
            <a:chOff x="0" y="0"/>
            <a:chExt cx="9144000" cy="6400800"/>
          </a:xfrm>
        </p:grpSpPr>
        <p:sp>
          <p:nvSpPr>
            <p:cNvPr id="47" name="Rectangle 12"/>
            <p:cNvSpPr/>
            <p:nvPr/>
          </p:nvSpPr>
          <p:spPr>
            <a:xfrm>
              <a:off x="1828800" y="4572000"/>
              <a:ext cx="6858000" cy="1828800"/>
            </a:xfrm>
            <a:prstGeom prst="rect">
              <a:avLst/>
            </a:prstGeom>
            <a:solidFill>
              <a:srgbClr val="8fc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10"/>
            <p:cNvGrpSpPr/>
            <p:nvPr/>
          </p:nvGrpSpPr>
          <p:grpSpPr>
            <a:xfrm>
              <a:off x="0" y="0"/>
              <a:ext cx="9144000" cy="6400800"/>
              <a:chOff x="0" y="0"/>
              <a:chExt cx="9144000" cy="6400800"/>
            </a:xfrm>
          </p:grpSpPr>
          <p:sp>
            <p:nvSpPr>
              <p:cNvPr id="49" name="Rectangle 15"/>
              <p:cNvSpPr/>
              <p:nvPr/>
            </p:nvSpPr>
            <p:spPr>
              <a:xfrm>
                <a:off x="18000" y="0"/>
                <a:ext cx="1821240" cy="4938120"/>
              </a:xfrm>
              <a:prstGeom prst="rect">
                <a:avLst/>
              </a:prstGeom>
              <a:solidFill>
                <a:srgbClr val="d4e3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Rectangl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3522600"/>
                <a:ext cx="9144000" cy="2878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" name="Rectangle 14"/>
            <p:cNvSpPr/>
            <p:nvPr/>
          </p:nvSpPr>
          <p:spPr>
            <a:xfrm>
              <a:off x="0" y="4572000"/>
              <a:ext cx="1828800" cy="1828800"/>
            </a:xfrm>
            <a:prstGeom prst="rect">
              <a:avLst/>
            </a:prstGeom>
            <a:solidFill>
              <a:srgbClr val="769f1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934320" y="6552720"/>
            <a:ext cx="1676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1891800" y="655272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4870080" y="655272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3D5B-C2FB-48FF-95C1-BA682D4F5003}" type="slidenum"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4" name="Rectangle 12"/>
            <p:cNvSpPr/>
            <p:nvPr/>
          </p:nvSpPr>
          <p:spPr>
            <a:xfrm>
              <a:off x="0" y="0"/>
              <a:ext cx="1825200" cy="6858000"/>
            </a:xfrm>
            <a:prstGeom prst="rect">
              <a:avLst/>
            </a:prstGeom>
            <a:solidFill>
              <a:srgbClr val="d4e3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3"/>
            <p:cNvSpPr/>
            <p:nvPr/>
          </p:nvSpPr>
          <p:spPr>
            <a:xfrm>
              <a:off x="0" y="2514600"/>
              <a:ext cx="1825200" cy="1828800"/>
            </a:xfrm>
            <a:prstGeom prst="rect">
              <a:avLst/>
            </a:prstGeom>
            <a:solidFill>
              <a:srgbClr val="769f1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Rectangle 14" descr=""/>
            <p:cNvPicPr/>
            <p:nvPr/>
          </p:nvPicPr>
          <p:blipFill>
            <a:blip r:embed="rId2"/>
            <a:stretch/>
          </p:blipFill>
          <p:spPr>
            <a:xfrm>
              <a:off x="1806840" y="2511360"/>
              <a:ext cx="7337160" cy="373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93108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189216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4866840" y="655596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CE30-1966-4855-9732-2EA436E9A900}" type="slidenum"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0"/>
          <p:cNvGrpSpPr/>
          <p:nvPr/>
        </p:nvGrpSpPr>
        <p:grpSpPr>
          <a:xfrm>
            <a:off x="0" y="0"/>
            <a:ext cx="9144000" cy="1676520"/>
            <a:chOff x="0" y="0"/>
            <a:chExt cx="9144000" cy="1676520"/>
          </a:xfrm>
        </p:grpSpPr>
        <p:pic>
          <p:nvPicPr>
            <p:cNvPr id="139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Rectangle 13"/>
            <p:cNvSpPr/>
            <p:nvPr/>
          </p:nvSpPr>
          <p:spPr>
            <a:xfrm>
              <a:off x="18000" y="2880"/>
              <a:ext cx="1821240" cy="82044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"/>
            <p:cNvSpPr/>
            <p:nvPr/>
          </p:nvSpPr>
          <p:spPr>
            <a:xfrm>
              <a:off x="511560" y="208080"/>
              <a:ext cx="834840" cy="41004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C9DE-0D0C-4566-90FC-12E60B96E50D}" type="slidenum">
              <a:rPr b="0" lang="en-US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9"/>
          <p:cNvGrpSpPr/>
          <p:nvPr/>
        </p:nvGrpSpPr>
        <p:grpSpPr>
          <a:xfrm>
            <a:off x="0" y="0"/>
            <a:ext cx="1828800" cy="1676520"/>
            <a:chOff x="0" y="0"/>
            <a:chExt cx="1828800" cy="1676520"/>
          </a:xfrm>
        </p:grpSpPr>
        <p:pic>
          <p:nvPicPr>
            <p:cNvPr id="184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288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Oval 13"/>
            <p:cNvSpPr/>
            <p:nvPr/>
          </p:nvSpPr>
          <p:spPr>
            <a:xfrm>
              <a:off x="503280" y="208080"/>
              <a:ext cx="821880" cy="41004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F0F0-D04C-47E5-8192-3F2C817DA98C}" type="slidenum">
              <a:rPr b="0" lang="en-US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8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34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13"/>
            <p:cNvSpPr/>
            <p:nvPr/>
          </p:nvSpPr>
          <p:spPr>
            <a:xfrm>
              <a:off x="7314120" y="5760"/>
              <a:ext cx="1823760" cy="6852240"/>
            </a:xfrm>
            <a:prstGeom prst="rect">
              <a:avLst/>
            </a:prstGeom>
            <a:solidFill>
              <a:srgbClr val="8fc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4"/>
            <p:cNvSpPr/>
            <p:nvPr/>
          </p:nvSpPr>
          <p:spPr>
            <a:xfrm>
              <a:off x="7314120" y="5760"/>
              <a:ext cx="1823760" cy="167472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7808040" y="424800"/>
              <a:ext cx="835920" cy="83736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78487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0B9F-1E86-4D00-B449-75F318074B29}" type="slidenum">
              <a:rPr b="0" lang="en-US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wilight%20bookmark%202.ppt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Subtitle 1" descr=""/>
          <p:cNvPicPr/>
          <p:nvPr/>
        </p:nvPicPr>
        <p:blipFill>
          <a:blip r:embed="rId1"/>
          <a:stretch/>
        </p:blipFill>
        <p:spPr>
          <a:xfrm>
            <a:off x="1841400" y="5834160"/>
            <a:ext cx="6637320" cy="50004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904760" y="4648320"/>
            <a:ext cx="655308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BOOK CLUBS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2" name="Picture 3" descr="C:\Users\JMoore16\AppData\Local\Microsoft\Windows\Temporary Internet Files\Content.IE5\9KKG8N68\MP900439419[1].jpg"/>
          <p:cNvPicPr/>
          <p:nvPr/>
        </p:nvPicPr>
        <p:blipFill>
          <a:blip r:embed="rId2"/>
          <a:stretch/>
        </p:blipFill>
        <p:spPr>
          <a:xfrm>
            <a:off x="1981080" y="152280"/>
            <a:ext cx="693432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BOOK TRAILERS…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6" name="Picture 5" descr="C:\Users\JMoore16\AppData\Local\Microsoft\Windows\Temporary Internet Files\Content.IE5\8LNCCFIR\MP900315661[1].jpg"/>
          <p:cNvPicPr/>
          <p:nvPr/>
        </p:nvPicPr>
        <p:blipFill>
          <a:blip r:embed="rId1"/>
          <a:stretch/>
        </p:blipFill>
        <p:spPr>
          <a:xfrm>
            <a:off x="304920" y="1828800"/>
            <a:ext cx="2990880" cy="21337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6" descr="C:\Users\JMoore16\AppData\Local\Microsoft\Windows\Temporary Internet Files\Content.IE5\O8YNH4R8\MP900314259[1].jpg"/>
          <p:cNvPicPr/>
          <p:nvPr/>
        </p:nvPicPr>
        <p:blipFill>
          <a:blip r:embed="rId2"/>
          <a:stretch/>
        </p:blipFill>
        <p:spPr>
          <a:xfrm>
            <a:off x="6195960" y="2362320"/>
            <a:ext cx="2948040" cy="40384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7" descr="C:\Users\JMoore16\AppData\Local\Microsoft\Windows\Temporary Internet Files\Content.IE5\THZ2V4EA\MP900405448[1].jpg"/>
          <p:cNvPicPr/>
          <p:nvPr/>
        </p:nvPicPr>
        <p:blipFill>
          <a:blip r:embed="rId3"/>
          <a:stretch/>
        </p:blipFill>
        <p:spPr>
          <a:xfrm>
            <a:off x="3505320" y="1905120"/>
            <a:ext cx="2865240" cy="25905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0" descr="C:\Users\JMoore16\AppData\Local\Microsoft\Windows\Temporary Internet Files\Content.IE5\THZ2V4EA\MP900049577[1].jpg"/>
          <p:cNvPicPr/>
          <p:nvPr/>
        </p:nvPicPr>
        <p:blipFill>
          <a:blip r:embed="rId4"/>
          <a:stretch/>
        </p:blipFill>
        <p:spPr>
          <a:xfrm>
            <a:off x="0" y="4395960"/>
            <a:ext cx="3657600" cy="24620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8" descr="C:\Users\dparker2\AppData\Local\Microsoft\Windows\Temporary Internet Files\Content.IE5\3TJZQZGK\MC900290104[1].wmf"/>
          <p:cNvPicPr/>
          <p:nvPr/>
        </p:nvPicPr>
        <p:blipFill>
          <a:blip r:embed="rId5"/>
          <a:stretch/>
        </p:blipFill>
        <p:spPr>
          <a:xfrm>
            <a:off x="4191120" y="4572000"/>
            <a:ext cx="175716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ictures from microsoftclipart.co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GETTING STARTED…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Picture 2" descr="C:\Users\JMoore16\AppData\Local\Microsoft\Windows\Temporary Internet Files\Content.IE5\8LNCCFIR\MP900341318[1].jpg"/>
          <p:cNvPicPr/>
          <p:nvPr/>
        </p:nvPicPr>
        <p:blipFill>
          <a:blip r:embed="rId1"/>
          <a:stretch/>
        </p:blipFill>
        <p:spPr>
          <a:xfrm>
            <a:off x="1905120" y="1905120"/>
            <a:ext cx="7238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SHOW US THE MONE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7" name="Picture 2" descr="C:\Users\JMoore16\AppData\Local\Microsoft\Windows\Temporary Internet Files\Content.IE5\9KKG8N68\MP900442387[1].jpg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GET’ER DONE…PROMOTING YOUR BOOK CLUB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9" name="Picture 6" descr="C:\Users\JMoore16\AppData\Local\Microsoft\Windows\Temporary Internet Files\Content.IE5\8LNCCFIR\MP900442330[1].jpg"/>
          <p:cNvPicPr/>
          <p:nvPr/>
        </p:nvPicPr>
        <p:blipFill>
          <a:blip r:embed="rId1"/>
          <a:stretch/>
        </p:blipFill>
        <p:spPr>
          <a:xfrm>
            <a:off x="228600" y="2209680"/>
            <a:ext cx="8610480" cy="4343400"/>
          </a:xfrm>
          <a:prstGeom prst="rect">
            <a:avLst/>
          </a:prstGeom>
          <a:ln w="0">
            <a:noFill/>
          </a:ln>
        </p:spPr>
      </p:pic>
      <p:sp>
        <p:nvSpPr>
          <p:cNvPr id="290" name="TextBox 7"/>
          <p:cNvSpPr/>
          <p:nvPr/>
        </p:nvSpPr>
        <p:spPr>
          <a:xfrm rot="20818800">
            <a:off x="3306960" y="4293360"/>
            <a:ext cx="3768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ook Club Meets Today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@ Your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IT’S ALL ABOUT STYLE…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2" name="Picture 19" descr="C:\Users\JMoore16\AppData\Local\Microsoft\Windows\Temporary Internet Files\Content.IE5\8LNCCFIR\MP900400652[1].jpg"/>
          <p:cNvPicPr/>
          <p:nvPr/>
        </p:nvPicPr>
        <p:blipFill>
          <a:blip r:embed="rId1"/>
          <a:stretch/>
        </p:blipFill>
        <p:spPr>
          <a:xfrm>
            <a:off x="2209680" y="1752480"/>
            <a:ext cx="4648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WHAT IN THE WORLD DO WE READ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4" name="Picture 2" descr="C:\Users\JMoore16\AppData\Local\Microsoft\Windows\Temporary Internet Files\Content.IE5\O8YNH4R8\MP900448290[1].jpg"/>
          <p:cNvPicPr/>
          <p:nvPr/>
        </p:nvPicPr>
        <p:blipFill>
          <a:blip r:embed="rId1"/>
          <a:stretch/>
        </p:blipFill>
        <p:spPr>
          <a:xfrm>
            <a:off x="3886200" y="2514600"/>
            <a:ext cx="1752480" cy="26370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"/>
          <p:cNvPicPr/>
          <p:nvPr/>
        </p:nvPicPr>
        <p:blipFill>
          <a:blip r:embed="rId2"/>
          <a:stretch/>
        </p:blipFill>
        <p:spPr>
          <a:xfrm>
            <a:off x="838080" y="19810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96" name="TextBox 4"/>
          <p:cNvSpPr/>
          <p:nvPr/>
        </p:nvSpPr>
        <p:spPr>
          <a:xfrm>
            <a:off x="540720" y="350532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ne  Star Reading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4" descr="C:\Users\JMoore16\AppData\Local\Microsoft\Windows\Temporary Internet Files\Content.IE5\8LNCCFIR\MP900409763[1].jpg"/>
          <p:cNvPicPr/>
          <p:nvPr/>
        </p:nvPicPr>
        <p:blipFill>
          <a:blip r:embed="rId3"/>
          <a:stretch/>
        </p:blipFill>
        <p:spPr>
          <a:xfrm>
            <a:off x="6477120" y="2133720"/>
            <a:ext cx="2060280" cy="1371600"/>
          </a:xfrm>
          <a:prstGeom prst="rect">
            <a:avLst/>
          </a:prstGeom>
          <a:ln w="0">
            <a:noFill/>
          </a:ln>
        </p:spPr>
      </p:pic>
      <p:sp>
        <p:nvSpPr>
          <p:cNvPr id="298" name="TextBox 6"/>
          <p:cNvSpPr/>
          <p:nvPr/>
        </p:nvSpPr>
        <p:spPr>
          <a:xfrm>
            <a:off x="6091560" y="3581280"/>
            <a:ext cx="30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ewspaper/Magazine Art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6" descr="C:\Users\JMoore16\AppData\Local\Microsoft\Windows\Temporary Internet Files\Content.IE5\8LNCCFIR\MP900442494[1].jpg"/>
          <p:cNvPicPr/>
          <p:nvPr/>
        </p:nvPicPr>
        <p:blipFill>
          <a:blip r:embed="rId4"/>
          <a:stretch/>
        </p:blipFill>
        <p:spPr>
          <a:xfrm>
            <a:off x="6858000" y="4495680"/>
            <a:ext cx="1143000" cy="1719360"/>
          </a:xfrm>
          <a:prstGeom prst="rect">
            <a:avLst/>
          </a:prstGeom>
          <a:ln w="0">
            <a:noFill/>
          </a:ln>
        </p:spPr>
      </p:pic>
      <p:sp>
        <p:nvSpPr>
          <p:cNvPr id="300" name="TextBox 9"/>
          <p:cNvSpPr/>
          <p:nvPr/>
        </p:nvSpPr>
        <p:spPr>
          <a:xfrm>
            <a:off x="6251040" y="6248520"/>
            <a:ext cx="21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aculty Col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0" descr="C:\Users\JMoore16\AppData\Local\Microsoft\Windows\Temporary Internet Files\Content.IE5\8LNCCFIR\MP900439424[1].jpg"/>
          <p:cNvPicPr/>
          <p:nvPr/>
        </p:nvPicPr>
        <p:blipFill>
          <a:blip r:embed="rId5"/>
          <a:stretch/>
        </p:blipFill>
        <p:spPr>
          <a:xfrm>
            <a:off x="990720" y="4495680"/>
            <a:ext cx="2063520" cy="1384560"/>
          </a:xfrm>
          <a:prstGeom prst="rect">
            <a:avLst/>
          </a:prstGeom>
          <a:ln w="0">
            <a:noFill/>
          </a:ln>
        </p:spPr>
      </p:pic>
      <p:sp>
        <p:nvSpPr>
          <p:cNvPr id="302" name="TextBox 14"/>
          <p:cNvSpPr/>
          <p:nvPr/>
        </p:nvSpPr>
        <p:spPr>
          <a:xfrm>
            <a:off x="846000" y="6019920"/>
            <a:ext cx="27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udent Recommend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traight Connector 16"/>
          <p:cNvSpPr/>
          <p:nvPr/>
        </p:nvSpPr>
        <p:spPr>
          <a:xfrm flipV="1">
            <a:off x="5715000" y="3048120"/>
            <a:ext cx="762120" cy="380880"/>
          </a:xfrm>
          <a:prstGeom prst="line">
            <a:avLst/>
          </a:prstGeom>
          <a:ln w="9360">
            <a:solidFill>
              <a:srgbClr val="a0d4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traight Connector 18"/>
          <p:cNvSpPr/>
          <p:nvPr/>
        </p:nvSpPr>
        <p:spPr>
          <a:xfrm>
            <a:off x="5334120" y="4572000"/>
            <a:ext cx="1523880" cy="1295280"/>
          </a:xfrm>
          <a:prstGeom prst="line">
            <a:avLst/>
          </a:prstGeom>
          <a:ln w="9360">
            <a:solidFill>
              <a:srgbClr val="a0d4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20"/>
          <p:cNvSpPr/>
          <p:nvPr/>
        </p:nvSpPr>
        <p:spPr>
          <a:xfrm flipH="1">
            <a:off x="2971440" y="4342680"/>
            <a:ext cx="1136520" cy="996840"/>
          </a:xfrm>
          <a:prstGeom prst="line">
            <a:avLst/>
          </a:prstGeom>
          <a:ln w="9360">
            <a:solidFill>
              <a:srgbClr val="a0d4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traight Connector 22"/>
          <p:cNvSpPr/>
          <p:nvPr/>
        </p:nvSpPr>
        <p:spPr>
          <a:xfrm flipH="1" flipV="1">
            <a:off x="2361960" y="2743200"/>
            <a:ext cx="1523880" cy="838080"/>
          </a:xfrm>
          <a:prstGeom prst="line">
            <a:avLst/>
          </a:prstGeom>
          <a:ln w="9360">
            <a:solidFill>
              <a:srgbClr val="a0d4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GIMMEES AND GADGETS…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8" name="Picture 6" descr="C:\Users\JMoore16\AppData\Local\Microsoft\Windows\Temporary Internet Files\Content.IE5\8LNCCFIR\MP900448727[1].jpg"/>
          <p:cNvPicPr/>
          <p:nvPr/>
        </p:nvPicPr>
        <p:blipFill>
          <a:blip r:embed="rId1"/>
          <a:stretch/>
        </p:blipFill>
        <p:spPr>
          <a:xfrm>
            <a:off x="609480" y="2133720"/>
            <a:ext cx="80773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GIMMEES AND GADGETS…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0" name="Picture 2" descr="C:\Users\dparker2\AppData\Local\Microsoft\Windows\Temporary Internet Files\Content.IE5\C3YVMM6P\MP900401284[1]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3222720"/>
            <a:ext cx="2971800" cy="19796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C:\Users\dparker2\AppData\Local\Microsoft\Windows\Temporary Internet Files\Content.IE5\2M5X8SYJ\MP900316361[1].jpg"/>
          <p:cNvPicPr/>
          <p:nvPr/>
        </p:nvPicPr>
        <p:blipFill>
          <a:blip r:embed="rId3"/>
          <a:stretch/>
        </p:blipFill>
        <p:spPr>
          <a:xfrm>
            <a:off x="5715000" y="3090960"/>
            <a:ext cx="2971800" cy="22431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C:\Users\dparker2\AppData\Local\Microsoft\Windows\Temporary Internet Files\Content.IE5\XZQJHAOB\MP900303008[1].jpg"/>
          <p:cNvPicPr/>
          <p:nvPr/>
        </p:nvPicPr>
        <p:blipFill>
          <a:blip r:embed="rId4"/>
          <a:stretch/>
        </p:blipFill>
        <p:spPr>
          <a:xfrm>
            <a:off x="5943600" y="3200400"/>
            <a:ext cx="2884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AND THE WINNERS ARE…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4" name="Picture 6" descr="C:\Users\JMoore16\AppData\Local\Microsoft\Windows\Temporary Internet Files\Content.IE5\O8YNH4R8\MP900409425[1].jpg"/>
          <p:cNvPicPr/>
          <p:nvPr/>
        </p:nvPicPr>
        <p:blipFill>
          <a:blip r:embed="rId1"/>
          <a:stretch/>
        </p:blipFill>
        <p:spPr>
          <a:xfrm>
            <a:off x="380880" y="1932120"/>
            <a:ext cx="838224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19:16:53Z</dcterms:created>
  <dc:creator>AISD Employee</dc:creator>
  <dc:description/>
  <dc:language>en-US</dc:language>
  <cp:lastModifiedBy>AISD Employee</cp:lastModifiedBy>
  <dcterms:modified xsi:type="dcterms:W3CDTF">2010-06-01T20:10:48Z</dcterms:modified>
  <cp:revision>64</cp:revision>
  <dc:subject/>
  <dc:title>Slide 1</dc:title>
</cp:coreProperties>
</file>